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applause.wav" ContentType="audio/x-wav"/>
  <Override PartName="/ppt/media/CHIMES.WAV" ContentType="audio/x-wav"/>
  <Override PartName="/ppt/media/PROJCTOR.WAV" ContentType="audio/x-wav"/>
  <Override PartName="/ppt/media/explode.wav" ContentType="audio/x-wav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BA3D-C4EF-4DBA-864A-2DF77AACA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F79D-A496-454A-A5E7-FE22855A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DCA5-A03C-4C13-81A6-89FBC019B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778A-A230-4C8F-A289-715D44594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DD9B-29B0-4B46-A6AE-D638716B1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6A58-9DD1-4D14-9C7E-4825FDCC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3665-FE2B-4661-8636-64AED384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3974-FFDC-4842-9F52-5530C7CC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D8875-381D-4268-9CFE-D32BE235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DECC-208F-43A6-AF4D-C7282B38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4DAD-EE2F-4F8E-80D3-26457289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FBD9-DFFB-4E96-863B-2558EE54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1CD29-6F22-43A0-9B2F-578DCEEA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74151-3975-4811-A9ED-E93C6409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90065-A636-43E4-9DFD-1F292958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669C-8744-4A17-A578-DDED27067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C1EE-E2B2-4D4A-96F1-1688612BE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92F94-38D5-4CDD-B11C-73A3EEF6F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A8105-CC30-4680-B583-0150A035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6B4E0-85B5-4C7F-8DE2-804A9F34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19001-09F6-40FA-B9FC-50E3803A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5FC51-C43A-4487-BD81-7FEED0C9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1C01-C0A2-4176-B445-9B03F780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75977-48B2-4904-8B8E-EE80CD12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EEB6E-CD01-486E-A2C7-1EE42587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25B9B-CDA8-4C52-A706-32C6740B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7ECA8-54EE-4775-8C7C-F5B8B199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ACD3A-7ADE-4632-8018-36859C54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1E4BD-2D9F-4E78-98ED-A27370CA1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88988-89CE-4507-875B-15EB0A173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FF6B-9F5C-4208-94F2-2BC39EAB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A13D-CC7F-459A-881B-64111A0A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3ED5-A80D-4189-9FE8-D445DBBD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036A-1A2A-4B55-9C0E-1CDDDE75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5DFC-E5BB-4808-89BF-54544BDA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3C69-F420-415D-A874-D9D92B9A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F4D1-0CBC-4632-8FBE-59362E4B3E57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38080" y="616896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Categorie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5c44e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D456-B44C-4B31-BC4A-9041683705C3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CE19-BF4A-4376-9FCF-5D9213FCFEF0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6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DRUMROLL.WAV" TargetMode="Externa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0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1.xml"/><Relationship Id="rId3" Type="http://schemas.openxmlformats.org/officeDocument/2006/relationships/slide" Target="slide11.xml"/><Relationship Id="rId4" Type="http://schemas.openxmlformats.org/officeDocument/2006/relationships/slide" Target="slide9.xml"/><Relationship Id="rId5" Type="http://schemas.openxmlformats.org/officeDocument/2006/relationships/slide" Target="slide7.xml"/><Relationship Id="rId6" Type="http://schemas.openxmlformats.org/officeDocument/2006/relationships/slide" Target="slide35.xml"/><Relationship Id="rId7" Type="http://schemas.openxmlformats.org/officeDocument/2006/relationships/slide" Target="slide25.xml"/><Relationship Id="rId8" Type="http://schemas.openxmlformats.org/officeDocument/2006/relationships/slide" Target="slide15.xml"/><Relationship Id="rId9" Type="http://schemas.openxmlformats.org/officeDocument/2006/relationships/slide" Target="slide5.xml"/><Relationship Id="rId10" Type="http://schemas.openxmlformats.org/officeDocument/2006/relationships/slide" Target="slide33.xml"/><Relationship Id="rId11" Type="http://schemas.openxmlformats.org/officeDocument/2006/relationships/slide" Target="slide23.xml"/><Relationship Id="rId12" Type="http://schemas.openxmlformats.org/officeDocument/2006/relationships/slide" Target="slide13.xml"/><Relationship Id="rId13" Type="http://schemas.openxmlformats.org/officeDocument/2006/relationships/slide" Target="slide3.xml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6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DRUMROLL.WAV" TargetMode="Externa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0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2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4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6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8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0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2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4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6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8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0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2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1760" y="3730320"/>
            <a:ext cx="8077320" cy="28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762120"/>
            <a:ext cx="3706920" cy="2176200"/>
          </a:xfrm>
          <a:prstGeom prst="rect">
            <a:avLst/>
          </a:pr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961920" y="2324160"/>
            <a:ext cx="7315200" cy="173988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ttachment, Infection, Replication, Assembly, Cell Lysi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1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4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961920" y="2324160"/>
            <a:ext cx="7315200" cy="256284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ecause HIV and the Common Cold are RNA viruses and they mutate too often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V ‘eye’ russ is</a:t>
            </a:r>
            <a:br>
              <a:rPr sz="36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5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61920" y="2324160"/>
            <a:ext cx="7315200" cy="173988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Why are vaccines for HIV and the common cold not effective?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1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5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61920" y="2324160"/>
            <a:ext cx="7315200" cy="173988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he names and three general shapes of Eubacteria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Back Tear Eya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100 Point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2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1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61920" y="2324160"/>
            <a:ext cx="7315200" cy="3134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acillus – Rod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ccus – Spher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pirilla – Spiral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2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2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61920" y="2324160"/>
            <a:ext cx="7315200" cy="338580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he kingdom which bacteria were placed in for the both the 5 kingdom classification and then the two kingdoms for the 6 kingdom clas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961920" y="2324160"/>
            <a:ext cx="7315200" cy="284868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ve kingdom – Monera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x Kingdom – Eubacteria and Archaebacteria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2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2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2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3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61920" y="2324160"/>
            <a:ext cx="7315200" cy="173988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he structure of a gram negative cell wall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">
            <a:hlinkClick r:id="rId2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2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3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61920" y="2324160"/>
            <a:ext cx="7315200" cy="256284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thin layer of peptidoglycan covered by an extra layer of either protein or lipid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961920" y="2324160"/>
            <a:ext cx="7315200" cy="173988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he three forms of genetic recombination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2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4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910560" y="5383080"/>
            <a:ext cx="15541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56080" y="5383080"/>
            <a:ext cx="155448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0520" y="5383080"/>
            <a:ext cx="155556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c44ec"/>
                </a:solidFill>
                <a:uFillTx/>
                <a:latin typeface="Times New Roman"/>
                <a:hlinkClick r:id="rId2" action="ppaction://hlinksldjump"/>
              </a:rPr>
              <a:t>5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46400" y="5383080"/>
            <a:ext cx="15541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92280" y="5383080"/>
            <a:ext cx="15541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c44ec"/>
                </a:solidFill>
                <a:uFillTx/>
                <a:latin typeface="Times New Roman"/>
                <a:hlinkClick r:id="rId3" action="ppaction://hlinksldjump"/>
              </a:rPr>
              <a:t>5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10560" y="440388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56080" y="4403880"/>
            <a:ext cx="155448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0520" y="4403880"/>
            <a:ext cx="155556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46400" y="440388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2280" y="440388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c44ec"/>
                </a:solidFill>
                <a:uFillTx/>
                <a:latin typeface="Times New Roman"/>
                <a:hlinkClick r:id="rId4" action="ppaction://hlinksldjump"/>
              </a:rPr>
              <a:t>4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10560" y="3425760"/>
            <a:ext cx="15541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56080" y="3425760"/>
            <a:ext cx="155448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0520" y="3425760"/>
            <a:ext cx="155556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46400" y="3425760"/>
            <a:ext cx="15541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92280" y="3425760"/>
            <a:ext cx="15541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c44ec"/>
                </a:solidFill>
                <a:uFillTx/>
                <a:latin typeface="Times New Roman"/>
                <a:hlinkClick r:id="rId5" action="ppaction://hlinksldjump"/>
              </a:rPr>
              <a:t>3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08760" y="244800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54640" y="244800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c44ec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98720" y="2448000"/>
            <a:ext cx="15559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c44ec"/>
                </a:solidFill>
                <a:uFillTx/>
                <a:latin typeface="Times New Roman"/>
                <a:hlinkClick r:id="rId7" action="ppaction://hlinksldjump"/>
              </a:rPr>
              <a:t>2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44600" y="244800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c44ec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0480" y="244800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c44ec"/>
                </a:solidFill>
                <a:uFillTx/>
                <a:latin typeface="Times New Roman"/>
                <a:hlinkClick r:id="rId9" action="ppaction://hlinksldjump"/>
              </a:rPr>
              <a:t>2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08760" y="1469880"/>
            <a:ext cx="15541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54640" y="1469880"/>
            <a:ext cx="15541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c44ec"/>
                </a:solidFill>
                <a:uFillTx/>
                <a:latin typeface="Times New Roman"/>
                <a:hlinkClick r:id="rId10" action="ppaction://hlinksldjump"/>
              </a:rPr>
              <a:t>1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98720" y="1469880"/>
            <a:ext cx="15559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c44ec"/>
                </a:solidFill>
                <a:uFillTx/>
                <a:latin typeface="Times New Roman"/>
                <a:hlinkClick r:id="rId11" action="ppaction://hlinksldjump"/>
              </a:rPr>
              <a:t>1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44600" y="1469880"/>
            <a:ext cx="15541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c44ec"/>
                </a:solidFill>
                <a:uFillTx/>
                <a:latin typeface="Times New Roman"/>
                <a:hlinkClick r:id="rId12" action="ppaction://hlinksldjump"/>
              </a:rPr>
              <a:t>1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90480" y="1469880"/>
            <a:ext cx="15541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c44ec"/>
                </a:solidFill>
                <a:uFillTx/>
                <a:latin typeface="Times New Roman"/>
                <a:hlinkClick r:id="rId13" action="ppaction://hlinksldjump"/>
              </a:rPr>
              <a:t>1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08760" y="49212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54640" y="49212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98720" y="492120"/>
            <a:ext cx="15559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44600" y="49212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0480" y="49212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04080" y="522360"/>
            <a:ext cx="155412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You can use your book (30 secs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49960" y="522360"/>
            <a:ext cx="155412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The Rejects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94040" y="522360"/>
            <a:ext cx="155592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lass if a 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39920" y="522360"/>
            <a:ext cx="155412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Back Tear Eya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522360"/>
            <a:ext cx="155412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V ‘eye’ russ is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626320" y="6278400"/>
            <a:ext cx="300240" cy="366840"/>
          </a:xfrm>
          <a:custGeom>
            <a:avLst/>
            <a:gdLst>
              <a:gd name="textAreaLeft" fmla="*/ 19440 w 300240"/>
              <a:gd name="textAreaRight" fmla="*/ 280800 w 300240"/>
              <a:gd name="textAreaTop" fmla="*/ 19440 h 366840"/>
              <a:gd name="textAreaBottom" fmla="*/ 347400 h 366840"/>
            </a:gdLst>
            <a:ahLst/>
            <a:rect l="textAreaLeft" t="textAreaTop" r="textAreaRight" b="textAreaBottom"/>
            <a:pathLst>
              <a:path w="21600" h="26386">
                <a:moveTo>
                  <a:pt x="0" y="0"/>
                </a:moveTo>
                <a:lnTo>
                  <a:pt x="21600" y="0"/>
                </a:lnTo>
                <a:lnTo>
                  <a:pt x="21600" y="26386"/>
                </a:lnTo>
                <a:lnTo>
                  <a:pt x="0" y="26386"/>
                </a:lnTo>
                <a:close/>
              </a:path>
              <a:path fill="lightenLess" w="21600" h="263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86">
                <a:moveTo>
                  <a:pt x="21600" y="0"/>
                </a:moveTo>
                <a:lnTo>
                  <a:pt x="21600" y="26386"/>
                </a:lnTo>
                <a:lnTo>
                  <a:pt x="20200" y="24986"/>
                </a:lnTo>
                <a:lnTo>
                  <a:pt x="20200" y="1400"/>
                </a:lnTo>
                <a:close/>
              </a:path>
              <a:path fill="darkenLess" w="21600" h="26386">
                <a:moveTo>
                  <a:pt x="21600" y="26386"/>
                </a:moveTo>
                <a:lnTo>
                  <a:pt x="0" y="26386"/>
                </a:lnTo>
                <a:lnTo>
                  <a:pt x="1400" y="24986"/>
                </a:lnTo>
                <a:lnTo>
                  <a:pt x="20200" y="24986"/>
                </a:lnTo>
                <a:close/>
              </a:path>
              <a:path fill="lighten" w="21600" h="26386">
                <a:moveTo>
                  <a:pt x="0" y="263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86"/>
                </a:lnTo>
                <a:close/>
              </a:path>
              <a:path fill="darken" w="21600" h="26386">
                <a:moveTo>
                  <a:pt x="14299" y="13193"/>
                </a:moveTo>
                <a:lnTo>
                  <a:pt x="3794" y="20199"/>
                </a:lnTo>
                <a:lnTo>
                  <a:pt x="3794" y="6186"/>
                </a:lnTo>
                <a:close/>
              </a:path>
              <a:path fill="darken" w="21600" h="26386">
                <a:moveTo>
                  <a:pt x="16144" y="6186"/>
                </a:moveTo>
                <a:lnTo>
                  <a:pt x="16144" y="20199"/>
                </a:lnTo>
                <a:lnTo>
                  <a:pt x="17806" y="20199"/>
                </a:lnTo>
                <a:lnTo>
                  <a:pt x="17806" y="6186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61920" y="2324160"/>
            <a:ext cx="7315200" cy="173988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ransformation, Conjugation, Transductio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2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4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961920" y="2324160"/>
            <a:ext cx="7315200" cy="256284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Why penicillin and tetracyline are effective in killing bacteria. (Be specific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2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5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961920" y="2324160"/>
            <a:ext cx="7315200" cy="20257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nicillin inhibits cell wall growth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etracycline inhibits protein synthesi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2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5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961920" y="2324160"/>
            <a:ext cx="7315200" cy="173988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he seven levels of classification in broadest to most specific order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4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6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assification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100 Point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3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1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61920" y="2324160"/>
            <a:ext cx="7315200" cy="173988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Kingdom, Phylum, Class, Order, Family, Genus, Specie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3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2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61920" y="2324160"/>
            <a:ext cx="7315200" cy="256284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he system of naming organisms by their genus and descriptive species name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inomial Nomenclatur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3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2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3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3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61920" y="2324160"/>
            <a:ext cx="7315200" cy="4597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e rules for writing a scientific name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" name="">
            <a:hlinkClick r:id="rId2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3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3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61920" y="2324160"/>
            <a:ext cx="7315200" cy="228744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e genus name must be capitalized and the species name lower-cased but both words must italicized or underline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he three domain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3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4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61920" y="2324160"/>
            <a:ext cx="7315200" cy="173988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he number of sides on an icosahedron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>
            <a:hlinkClick r:id="rId2" action="ppaction://hlinksldjump"/>
          </p:cNvPr>
          <p:cNvSpPr/>
          <p:nvPr/>
        </p:nvSpPr>
        <p:spPr>
          <a:xfrm>
            <a:off x="7821720" y="5840280"/>
            <a:ext cx="493560" cy="551160"/>
          </a:xfrm>
          <a:custGeom>
            <a:avLst/>
            <a:gdLst>
              <a:gd name="textAreaLeft" fmla="*/ 31680 w 493560"/>
              <a:gd name="textAreaRight" fmla="*/ 461880 w 493560"/>
              <a:gd name="textAreaTop" fmla="*/ 31680 h 551160"/>
              <a:gd name="textAreaBottom" fmla="*/ 519480 h 551160"/>
            </a:gdLst>
            <a:ahLst/>
            <a:rect l="textAreaLeft" t="textAreaTop" r="textAreaRight" b="textAreaBottom"/>
            <a:pathLst>
              <a:path w="21600" h="24119">
                <a:moveTo>
                  <a:pt x="0" y="0"/>
                </a:moveTo>
                <a:lnTo>
                  <a:pt x="21600" y="0"/>
                </a:lnTo>
                <a:lnTo>
                  <a:pt x="21600" y="24119"/>
                </a:lnTo>
                <a:lnTo>
                  <a:pt x="0" y="24119"/>
                </a:lnTo>
                <a:close/>
              </a:path>
              <a:path fill="lightenLess" w="21600" h="241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19">
                <a:moveTo>
                  <a:pt x="21600" y="0"/>
                </a:moveTo>
                <a:lnTo>
                  <a:pt x="21600" y="24119"/>
                </a:lnTo>
                <a:lnTo>
                  <a:pt x="20200" y="22719"/>
                </a:lnTo>
                <a:lnTo>
                  <a:pt x="20200" y="1400"/>
                </a:lnTo>
                <a:close/>
              </a:path>
              <a:path fill="darkenLess" w="21600" h="24119">
                <a:moveTo>
                  <a:pt x="21600" y="24119"/>
                </a:moveTo>
                <a:lnTo>
                  <a:pt x="0" y="24119"/>
                </a:lnTo>
                <a:lnTo>
                  <a:pt x="1400" y="22719"/>
                </a:lnTo>
                <a:lnTo>
                  <a:pt x="20200" y="22719"/>
                </a:lnTo>
                <a:close/>
              </a:path>
              <a:path fill="lighten" w="21600" h="24119">
                <a:moveTo>
                  <a:pt x="0" y="241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19"/>
                </a:lnTo>
                <a:close/>
              </a:path>
              <a:path fill="darken" w="21600" h="24119">
                <a:moveTo>
                  <a:pt x="10800" y="1606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19">
                <a:moveTo>
                  <a:pt x="11905" y="15541"/>
                </a:moveTo>
                <a:lnTo>
                  <a:pt x="11905" y="13583"/>
                </a:lnTo>
                <a:cubicBezTo>
                  <a:pt x="11905" y="12756"/>
                  <a:pt x="12236" y="12059"/>
                  <a:pt x="12837" y="12059"/>
                </a:cubicBezTo>
                <a:cubicBezTo>
                  <a:pt x="13968" y="12059"/>
                  <a:pt x="14865" y="10693"/>
                  <a:pt x="14865" y="9109"/>
                </a:cubicBezTo>
                <a:cubicBezTo>
                  <a:pt x="14865" y="6794"/>
                  <a:pt x="13011" y="5053"/>
                  <a:pt x="10800" y="5053"/>
                </a:cubicBezTo>
                <a:cubicBezTo>
                  <a:pt x="8589" y="5053"/>
                  <a:pt x="6918" y="6794"/>
                  <a:pt x="6918" y="9109"/>
                </a:cubicBezTo>
                <a:lnTo>
                  <a:pt x="8772" y="9109"/>
                </a:lnTo>
                <a:cubicBezTo>
                  <a:pt x="8772" y="7969"/>
                  <a:pt x="9695" y="7081"/>
                  <a:pt x="10800" y="7081"/>
                </a:cubicBezTo>
                <a:cubicBezTo>
                  <a:pt x="11905" y="7081"/>
                  <a:pt x="12837" y="7969"/>
                  <a:pt x="12837" y="9109"/>
                </a:cubicBezTo>
                <a:cubicBezTo>
                  <a:pt x="12837" y="9849"/>
                  <a:pt x="12367" y="10580"/>
                  <a:pt x="11905" y="10580"/>
                </a:cubicBezTo>
                <a:cubicBezTo>
                  <a:pt x="10800" y="10580"/>
                  <a:pt x="9695" y="12059"/>
                  <a:pt x="9695" y="13583"/>
                </a:cubicBezTo>
                <a:lnTo>
                  <a:pt x="9695" y="1554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V ‘eye’ russ is </a:t>
            </a:r>
            <a:br>
              <a:rPr sz="36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100 Point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" dur="indefinite" restart="never" nodeType="tmRoot">
          <p:childTnLst>
            <p:seq>
              <p:cTn id="7" dur="indefinite" nodeType="mainSeq">
                <p:childTnLst>
                  <p:par>
                    <p:cTn id="8" fill="hold">
                      <p:stCondLst>
                        <p:cond delay="0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ukarya, Archae, Bacteria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3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4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961920" y="2324160"/>
            <a:ext cx="7315200" cy="228744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 current practices for developing the ancestoral relationships between organism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3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5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961920" y="2324160"/>
            <a:ext cx="7315200" cy="327276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ssil record, morphology, chromosomes, nucleotide sequences, amino acid sequence, embryological develop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3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5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nimal – like protists general nam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4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100 Point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4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1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zoan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4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2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61920" y="2324160"/>
            <a:ext cx="7315200" cy="256284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he modified structure on the outside of a paramecium that serves as its outer covering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llicl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4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2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4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3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61920" y="2324160"/>
            <a:ext cx="7315200" cy="173988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his phylum moves by method of flagella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4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3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uglenaphyta or Flagellate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961920" y="2324160"/>
            <a:ext cx="7315200" cy="281304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tch the following disease with their transmitter: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frican Sleeping Sickness, Chagas’ Disease, Giardiasis, Leishmiasi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setse Fly, Fecal Material, Sand Flies, Kissing Bug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4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4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1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1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What is 20 sides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961920" y="2324160"/>
            <a:ext cx="7315200" cy="42433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frican Sleeping Sickness – Ts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iardiasis – Fecal Material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agas’s Disease – Kissing Bug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ishmiasis – Sand Flie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4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4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961920" y="2324160"/>
            <a:ext cx="7315200" cy="173988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How does a paramecium divide via conjugation?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9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4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5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79360" y="2384280"/>
            <a:ext cx="8559720" cy="423864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50000"/>
              </a:lnSpc>
              <a:spcBef>
                <a:spcPts val="174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aramecium Line Up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1500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cronuclei Line up and micronuclei undergo meiosi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1500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l but one micronucleus disintegrates and the remaining one replicates through mitosis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1500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ne micronucleus from each paramecium are exchanged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1500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cronuclei fuse and the paramecium separate then divid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4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5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961920" y="2324160"/>
            <a:ext cx="7315200" cy="173988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irus that embeds into a host cell that is not a bacteria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4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5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100 Point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5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1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viru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5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2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61920" y="2324160"/>
            <a:ext cx="7315200" cy="173988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Was made famous because he crystallized a tobacco mosaic virus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0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Wendell Stanley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5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2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5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3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61920" y="2324160"/>
            <a:ext cx="7315200" cy="173988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he difference between a variety and a subspecies.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5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5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3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61920" y="2324160"/>
            <a:ext cx="7315200" cy="367164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rieties describe different plants in a specie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ubspecies describe different animals in a specie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961920" y="2324160"/>
            <a:ext cx="7315200" cy="256284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duced by gram negative bacteria and are made of lipids and carbohydrate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5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4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V ‘eye’ russ is </a:t>
            </a:r>
            <a:br>
              <a:rPr sz="36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2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nucleic acid and a protein coat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dotoxin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5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4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n emerging virus is.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4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5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5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961920" y="2324160"/>
            <a:ext cx="7315200" cy="256284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irus that only exists in isolated locations and only infect humans when humans start to invade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5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5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914400" y="2514600"/>
            <a:ext cx="762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78963"/>
                </a:solidFill>
                <a:latin typeface="Times New Roman"/>
                <a:ea typeface="Times New Roman"/>
              </a:rPr>
              <a:t>Round 2 Are you ready????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15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861840" y="2389320"/>
            <a:ext cx="745992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The Daily Double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432560" y="5964120"/>
            <a:ext cx="754200" cy="363600"/>
          </a:xfrm>
          <a:custGeom>
            <a:avLst/>
            <a:gdLst>
              <a:gd name="textAreaLeft" fmla="*/ 0 w 754200"/>
              <a:gd name="textAreaRight" fmla="*/ 754560 w 75420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19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What is the structure of a virus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1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2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V ‘eye’ russ is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3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he range in size of virus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1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3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What is 20 – 250 nanometers?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961920" y="2324160"/>
            <a:ext cx="7315200" cy="173988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he steps of the lytic cycle in correct order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V ‘eye’ russ is </a:t>
            </a:r>
            <a:br>
              <a:rPr sz="36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4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6T03:27:32Z</dcterms:created>
  <dc:creator>Lynne Crandall</dc:creator>
  <dc:description>Adapted from the template provided by Serafin Coronil-Molina.</dc:description>
  <cp:keywords>jeopardy</cp:keywords>
  <dc:language>en-US</dc:language>
  <cp:lastModifiedBy>NPSD</cp:lastModifiedBy>
  <dcterms:modified xsi:type="dcterms:W3CDTF">2009-05-13T18:31:41Z</dcterms:modified>
  <cp:revision>153</cp:revision>
  <dc:subject/>
  <dc:title>Jeopardy prompt and response template</dc:title>
</cp:coreProperties>
</file>